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FC7-2AB9-46CE-83B0-279C9434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738-52E8-4B14-A259-1946CD4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1EA-9DCC-41BE-88E0-05538835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37B-E78A-4579-9C45-FB8094C2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82F-8651-4330-9AF2-860968BB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4E4-5841-43D5-9564-DDE57272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0409-64E1-4ED9-9D7C-A1E567D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759B-6FB9-430C-A4A8-536AC69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130-7132-4113-ABF1-0D1D7CAD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5B3-0153-4053-B1C0-418ADCE1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78C-88CB-4202-AE7F-0788C55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BCC-654D-424F-A7F5-03912AB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AE00-63E7-414B-A31D-8110807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EBC6-939A-4E6A-B855-A24CB9F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8B76-9E04-4317-9308-4DA12702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1C33-B60C-460B-A1F5-C343F14F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E120-83E5-47CD-8098-2ED67B11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DDA-1406-4AC2-A814-28EC9104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22A-B7C9-4475-A65B-71BB599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4FC-FC04-4BF4-BFE6-24E57A8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3CA-0894-4DFA-999F-641E47B8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A58-A57F-43DF-A2EE-B033F79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204-B44A-42D9-93B1-36B2F5E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1E8-4930-40AB-906F-D015099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A01-476B-421C-9C00-A852BA624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3A9F-A244-4DB6-80DB-24DDFD776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Rutina</a:t>
            </a:r>
            <a:br>
              <a:rPr sz="5400"/>
            </a:b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Langost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Patrick Kl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333960" cy="27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91120" y="3505320"/>
            <a:ext cx="4343400" cy="296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El Langosta es acostar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acues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las once de la noc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uerme ensegu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657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tomar una duch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ry toma una ducha. El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uchacho se lava el pelo. No se lava el pelo ho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852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nava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ry e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 afeit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 afeita con la navaj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2330640" cy="2552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3234600">
            <a:off x="3808800" y="5258880"/>
            <a:ext cx="914400" cy="60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590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los di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cepilla(se lava ) los d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257280" cy="335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3726000">
            <a:off x="2926080" y="4617000"/>
            <a:ext cx="761760" cy="36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toma el desayu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sienta a la me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oma el desayuno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esayu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325764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990720" cy="59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2:17Z</dcterms:created>
  <dc:creator>kleinpat</dc:creator>
  <dc:description/>
  <dc:language>en-US</dc:language>
  <cp:lastModifiedBy>kleinpat</cp:lastModifiedBy>
  <dcterms:modified xsi:type="dcterms:W3CDTF">2012-04-05T15:39:16Z</dcterms:modified>
  <cp:revision>4</cp:revision>
  <dc:subject/>
  <dc:title>La Rutina</dc:title>
</cp:coreProperties>
</file>